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2.xml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5.xml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otriophagi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pro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54936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genirri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7" idx="3"/>
            <a:endCxn id="15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1" name=""/>
          <p:cNvCxnSpPr>
            <a:stCxn id="157" idx="3"/>
            <a:endCxn id="15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3"/>
            <a:endCxn id="16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7" name=""/>
          <p:cNvCxnSpPr>
            <a:stCxn id="164" idx="3"/>
            <a:endCxn id="16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720" y="549360"/>
            <a:ext cx="74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2" idx="3"/>
            <a:endCxn id="17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640" y="549360"/>
            <a:ext cx="73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7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9" name=""/>
          <p:cNvCxnSpPr>
            <a:stCxn id="176" idx="3"/>
            <a:endCxn id="18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4640" y="549360"/>
            <a:ext cx="73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2400" y="54936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loriengehalt des 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r andere Spezi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Altersstuf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tungsgrup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gane Fütt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8" idx="3"/>
            <a:endCxn id="18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2" name=""/>
          <p:cNvCxnSpPr>
            <a:stCxn id="188" idx="3"/>
            <a:endCxn id="19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9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Ente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pat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su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5" idx="3"/>
            <a:endCxn id="2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9" name=""/>
          <p:cNvCxnSpPr>
            <a:stCxn id="205" idx="3"/>
            <a:endCxn id="2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2" idx="3"/>
            <a:endCxn id="2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6" name=""/>
          <p:cNvCxnSpPr>
            <a:stCxn id="212" idx="3"/>
            <a:endCxn id="2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4880" y="54936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7" idx="3"/>
            <a:endCxn id="11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haltensstör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ngeweil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samkeit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0480" y="549360"/>
            <a:ext cx="74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3"/>
            <a:endCxn id="2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lastung ↑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5" idx="3"/>
            <a:endCxn id="22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4640" y="549360"/>
            <a:ext cx="73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31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2" name=""/>
          <p:cNvCxnSpPr>
            <a:stCxn id="229" idx="3"/>
            <a:endCxn id="23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29" idx="3"/>
            <a:endCxn id="235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wichtsverlust &gt; Kalorienverbrauch ↑ &gt; 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960" y="549360"/>
            <a:ext cx="79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Polyphagie &gt; 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wichtsverlust &gt; Kalorienverbrauch ↑ &gt; „jemand frisst mit“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irri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4880" y="549360"/>
            <a:ext cx="48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Magenirri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st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7" idx="3"/>
            <a:endCxn id="11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7" idx="3"/>
            <a:endCxn id="11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021680" y="54936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1104840" y="549360"/>
            <a:ext cx="68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it Gewichtszu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4120" y="549360"/>
            <a:ext cx="70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Gewichtszunahm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influss von 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Diazepa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Phenobarbita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4120" y="549360"/>
            <a:ext cx="70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Gewichtszunahm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sychogener 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nei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ein physiolog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ättigungsgefüh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4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4" name=""/>
          <p:cNvCxnSpPr>
            <a:stCxn id="141" idx="3"/>
            <a:endCxn id="14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3"/>
            <a:endCxn id="146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wichts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3"/>
            <a:endCxn id="15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4" name=""/>
          <p:cNvCxnSpPr>
            <a:stCxn id="150" idx="3"/>
            <a:endCxn id="15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124640" y="54936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llotriophagie/Koprophag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yphag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Gewichtszunahme/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wichts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8:23Z</dcterms:modified>
  <cp:revision>340</cp:revision>
  <dc:subject/>
  <dc:title>Vorstellung einer Neuheit</dc:title>
</cp:coreProperties>
</file>